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CDF3-5829-4638-B295-7A539C1DA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1285-9A5A-4D76-B481-EDDF44B1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0B64-003D-4AB5-93F9-5EBB66255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3D75-1C85-43E3-93AA-48EE34AE7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149E-7468-49AD-A575-1E4D95DC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D54D-50B5-48E2-8605-1B95FDB6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49E9-8312-483B-B96F-5E668F91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DEAC-592B-4B16-B27A-024085BA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1A91-22D2-4E3F-A696-7BAD744C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AD6E-FA6D-4277-AF68-DE3D1918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9764-617B-4E59-90FC-CBD3F87C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767B-4143-4F7F-836E-D7CA4A29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9020-22D2-497E-94BA-287F129CC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ussia’s Tough Pa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yle Murphy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rgaret P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evan 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lavs built civilization around modern day Kiev in 800 C.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civilization was called Kievan 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tern Orthodox Christianity was accepted in 1000 C.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often trading with Western Europe and Mediterranean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gol Trou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ngols interrupted Kievan Rus’ trading with other countries. Their rule lasted 1200 C.E.-1400 C.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only lasted 200 yea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17524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van III of Musco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cow became a new Slavic cen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called Muscovy.  In 1380 Ivan III ( a prince) threw out the Mongols and made the land independent.  HORAYYY!!!!!!!!!  Muscovy became the place we call Russ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van IV ( the terri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an IV called himself czar ( z-are) and controlled the people of Russ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9:04:09Z</dcterms:created>
  <dc:creator> </dc:creator>
  <dc:description/>
  <dc:language>en-US</dc:language>
  <cp:lastModifiedBy> </cp:lastModifiedBy>
  <dcterms:modified xsi:type="dcterms:W3CDTF">2010-12-15T19:19:23Z</dcterms:modified>
  <cp:revision>6</cp:revision>
  <dc:subject/>
  <dc:title>Russia’s Tough Past</dc:title>
</cp:coreProperties>
</file>